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F711-BA99-4CFF-9112-3E3DF687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17E1-BB27-46CD-9955-1D53A3DF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0FC9-FD72-44AF-BCCB-5372D5875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D0E4-CC14-48A3-913D-659436E4A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7E0B-8473-4E80-ACCF-6BDE0382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6328-1F45-4439-8A86-1DD40914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AD38-CFF1-4FDD-8DB7-BA3E4F91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49A2-D236-4E45-AEEC-67190BF0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E6E3-82AA-4D32-9052-D7500769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8192-11E5-46E6-A6EA-38AFABF7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3549-DC18-40F3-B173-B1E44EC0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CC30-118A-4FFE-8DC1-9BB99CAD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C57C-2B11-413A-9A19-AF06FB572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 is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2260800" cy="1906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943600" y="25146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124080" y="2438280"/>
            <a:ext cx="24386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3:01:32Z</dcterms:created>
  <dc:creator>8736</dc:creator>
  <dc:description/>
  <dc:language>en-US</dc:language>
  <cp:lastModifiedBy>8736</cp:lastModifiedBy>
  <dcterms:modified xsi:type="dcterms:W3CDTF">2010-09-13T13:01:37Z</dcterms:modified>
  <cp:revision>1</cp:revision>
  <dc:subject/>
  <dc:title>Today is ______________</dc:title>
</cp:coreProperties>
</file>